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5E3-A6BD-4D15-B631-7F8AA49C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8B2-B6F2-4063-B30A-8307B403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B93-BE7F-4B4C-B183-ECC658A7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8BE-ECD8-4649-A0D0-738002DE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C67-67C5-49B9-A338-024292FF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89C-FDCB-4CF6-A855-C5FF1B22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FC9-2FAF-4CB0-844E-B8EFAA40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81A-F9B4-44F3-9B56-62D5ABB6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11B-FAA3-4BE3-AD61-928EE185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9A6C-B9B8-464E-8627-9368E513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744-FCA5-4045-AA11-C3699D2D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77D-A78E-4DA5-8A15-5D52FE28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85CA-E02D-451D-B948-615BF849A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m720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5344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n720" descr=""/>
          <p:cNvPicPr/>
          <p:nvPr/>
        </p:nvPicPr>
        <p:blipFill>
          <a:blip r:embed="rId1"/>
          <a:stretch/>
        </p:blipFill>
        <p:spPr>
          <a:xfrm>
            <a:off x="2057400" y="0"/>
            <a:ext cx="2641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00:27:21Z</dcterms:created>
  <dc:creator>geoff lyon</dc:creator>
  <dc:description/>
  <dc:language>en-US</dc:language>
  <cp:lastModifiedBy>geoff lyon</cp:lastModifiedBy>
  <dcterms:modified xsi:type="dcterms:W3CDTF">2001-10-13T00:27:54Z</dcterms:modified>
  <cp:revision>1</cp:revision>
  <dc:subject/>
  <dc:title>PowerPoint Presentation</dc:title>
</cp:coreProperties>
</file>